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736A-D79A-4B84-A61B-D651E3487D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a  3/d  4/f  5/b  6/e</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06F3-74AA-4E3C-81D6-B44BE391C6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ith b) lot  c) it d) in  e) on   f) the   g) of  h) was  i) that   j) cen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1621-9E04-4754-9B36-7526467E8B6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groups, or research on the interne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D3D2-950C-44BE-B448-6B2084BCBF4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Mauritania is on the west coast of the Sahara; there are around 151,000 slaves (or up to 20% of the population)</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93FB-C866-465D-8F9B-BE3F321DF8E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F12F-D62C-4D1F-B949-13DB38EB2E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1981   b) Haratins, Afro-Mauritanians, White Moor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36A0-2E08-41BB-8EDA-BBE5B7AA08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ll three reaso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A3B5-D222-4795-9D0E-7C4ACF1BDEA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6B222-E9AF-4C67-AA6F-7CDFD93A8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EA5F5-B2D5-4A11-A6A6-17EFBEE5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7DAAE-DF69-4AE1-B100-1A70D14A9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0C059-B69F-45E5-AD95-E9075359C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DE98F-6F6B-40E8-8E85-5492B970F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01179-4E27-45DA-8580-82E996461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0CCB3-C09A-4913-8E7B-9AA4A82BC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978C-0C28-4066-9283-8ACDECF1E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AF601-FC43-4CCA-B04B-C685B94CE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948B2-6225-4FA6-AAEF-BFD5575F5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1311-B297-498C-AED4-B934C6612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008F4-38A9-4F09-AC32-00E8AABF8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5D91-1549-44AB-A82F-FEBDEBF2681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Slavery in Mauritania</a:t>
            </a:r>
            <a:endParaRPr b="0" lang="en-US" sz="6600" spc="-1" strike="noStrike">
              <a:solidFill>
                <a:srgbClr val="000000"/>
              </a:solidFill>
              <a:latin typeface="Calibri"/>
            </a:endParaRPr>
          </a:p>
        </p:txBody>
      </p:sp>
      <p:sp>
        <p:nvSpPr>
          <p:cNvPr id="49" name="PlaceHolder 2"/>
          <p:cNvSpPr>
            <a:spLocks noGrp="1"/>
          </p:cNvSpPr>
          <p:nvPr>
            <p:ph type="subTitle"/>
          </p:nvPr>
        </p:nvSpPr>
        <p:spPr>
          <a:xfrm>
            <a:off x="250560" y="3886200"/>
            <a:ext cx="6049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1976400" y="260280"/>
            <a:ext cx="6886440" cy="1728720"/>
          </a:xfrm>
          <a:prstGeom prst="rect">
            <a:avLst/>
          </a:prstGeom>
          <a:ln w="0">
            <a:noFill/>
          </a:ln>
        </p:spPr>
      </p:pic>
      <p:pic>
        <p:nvPicPr>
          <p:cNvPr id="51" name="Picture 5" descr=""/>
          <p:cNvPicPr/>
          <p:nvPr/>
        </p:nvPicPr>
        <p:blipFill>
          <a:blip r:embed="rId2"/>
          <a:stretch/>
        </p:blipFill>
        <p:spPr>
          <a:xfrm>
            <a:off x="6156360" y="3835440"/>
            <a:ext cx="2700360" cy="17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easy English and original):</a:t>
            </a:r>
            <a:endParaRPr b="0" lang="en-US" sz="4400" spc="-1" strike="noStrike">
              <a:solidFill>
                <a:srgbClr val="000000"/>
              </a:solidFill>
              <a:latin typeface="Calibri"/>
            </a:endParaRPr>
          </a:p>
        </p:txBody>
      </p:sp>
      <p:sp>
        <p:nvSpPr>
          <p:cNvPr id="71" name=""/>
          <p:cNvSpPr txBox="1"/>
          <p:nvPr/>
        </p:nvSpPr>
        <p:spPr>
          <a:xfrm>
            <a:off x="179280" y="981000"/>
            <a:ext cx="4105440" cy="561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God wants them to be sla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 have too much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they give strong punishments to any slavery they fi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ll groups are starting to understa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 say (slavery) is OK</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 some good things are happen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
          <p:cNvSpPr txBox="1"/>
          <p:nvPr/>
        </p:nvSpPr>
        <p:spPr>
          <a:xfrm>
            <a:off x="4356000" y="981000"/>
            <a:ext cx="4680000" cy="568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eld a disproportionate amount of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justify the practice of (sla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their status is willed by Go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ny cases that come to light are vigorously punish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here are positive developments afoo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it’s happening across the boar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fill the gaps with small words:</a:t>
            </a:r>
            <a:endParaRPr b="0" lang="en-US" sz="4400" spc="-1" strike="noStrike">
              <a:solidFill>
                <a:srgbClr val="000000"/>
              </a:solidFill>
              <a:latin typeface="Calibri"/>
            </a:endParaRPr>
          </a:p>
        </p:txBody>
      </p:sp>
      <p:sp>
        <p:nvSpPr>
          <p:cNvPr id="74" name=""/>
          <p:cNvSpPr txBox="1"/>
          <p:nvPr/>
        </p:nvSpPr>
        <p:spPr>
          <a:xfrm>
            <a:off x="323640" y="764640"/>
            <a:ext cx="8351640" cy="59770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a large desert country a)……. a low population and there is a b)…. of slavery. But slavery became illegal in 1981 and c).…. became a crime against humanity d)…… 201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e)…… the west coast of the Sahara, and the 2013 Global Slavery Index says it has f)…. highest number of slaves per head g)…….. population. This index h)……. created by Walk Free Foundation (the anti-slavery charity); they found i)………. 151,000 people – almost four per j)……… of the population – could be slaves. Other groups have said it could be up to 20 per cen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5051520" cy="25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think of the slavery in Mauritania?</a:t>
            </a:r>
            <a:endParaRPr b="0" lang="en-US" sz="4400" spc="-1" strike="noStrike">
              <a:solidFill>
                <a:srgbClr val="000000"/>
              </a:solidFill>
              <a:latin typeface="Calibri"/>
            </a:endParaRPr>
          </a:p>
        </p:txBody>
      </p:sp>
      <p:sp>
        <p:nvSpPr>
          <p:cNvPr id="76" name=""/>
          <p:cNvSpPr txBox="1"/>
          <p:nvPr/>
        </p:nvSpPr>
        <p:spPr>
          <a:xfrm>
            <a:off x="457200" y="3125880"/>
            <a:ext cx="8229600" cy="3000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rite an letter to the government of Mauritania to tell them.</a:t>
            </a:r>
            <a:endParaRPr b="0" lang="en-US" sz="6000" spc="-1" strike="noStrike">
              <a:solidFill>
                <a:srgbClr val="000000"/>
              </a:solidFill>
              <a:latin typeface="Calibri"/>
            </a:endParaRPr>
          </a:p>
        </p:txBody>
      </p:sp>
      <p:pic>
        <p:nvPicPr>
          <p:cNvPr id="77" name="Picture 4" descr=""/>
          <p:cNvPicPr/>
          <p:nvPr/>
        </p:nvPicPr>
        <p:blipFill>
          <a:blip r:embed="rId1"/>
          <a:stretch/>
        </p:blipFill>
        <p:spPr>
          <a:xfrm>
            <a:off x="5743440" y="1052640"/>
            <a:ext cx="3268800" cy="20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4358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ere is Mauritania? And how many slaves are there?</a:t>
            </a:r>
            <a:endParaRPr b="0" lang="en-US" sz="4000" spc="-1" strike="noStrike">
              <a:solidFill>
                <a:srgbClr val="000000"/>
              </a:solidFill>
              <a:latin typeface="Calibri"/>
            </a:endParaRPr>
          </a:p>
        </p:txBody>
      </p:sp>
      <p:sp>
        <p:nvSpPr>
          <p:cNvPr id="53" name=""/>
          <p:cNvSpPr txBox="1"/>
          <p:nvPr/>
        </p:nvSpPr>
        <p:spPr>
          <a:xfrm>
            <a:off x="324000" y="1600200"/>
            <a:ext cx="84960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n the next slide  - one minute only - to find out </a:t>
            </a:r>
            <a:endParaRPr b="0" lang="en-US" sz="3200" spc="-1" strike="noStrike">
              <a:solidFill>
                <a:srgbClr val="000000"/>
              </a:solidFill>
              <a:latin typeface="Calibri"/>
            </a:endParaRPr>
          </a:p>
        </p:txBody>
      </p:sp>
      <p:pic>
        <p:nvPicPr>
          <p:cNvPr id="54" name="Picture 2" descr=""/>
          <p:cNvPicPr/>
          <p:nvPr/>
        </p:nvPicPr>
        <p:blipFill>
          <a:blip r:embed="rId1"/>
          <a:stretch/>
        </p:blipFill>
        <p:spPr>
          <a:xfrm>
            <a:off x="1033560" y="1352520"/>
            <a:ext cx="6902280" cy="438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6" name=""/>
          <p:cNvSpPr txBox="1"/>
          <p:nvPr/>
        </p:nvSpPr>
        <p:spPr>
          <a:xfrm>
            <a:off x="179280" y="404640"/>
            <a:ext cx="8785440" cy="63374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a large desert country with a low population and there is a lot of slavery. But slavery became illegal in 1981 and it became a crime against humanity in 2012.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on the west coast of the Sahara, and the 2013 Global Slavery Index says it has the highest number of slaves per head of population. This index was created by Walk Free Foundation (the anti-slavery charity); they found that 151,000 people –almost four per cent of the population – could be slaves. Other groups have said it could be up to 20 per cen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lavery in Mauritania is “chattel slavery”; people own generations of slaves and their families. The first slaves were captured a long time ago by slave-owning groups, and all their families have been slaves since then.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lso mixed with racism. Mauritania has three main ethnic groups: Haratins, Afro-Mauritanians and White Moors. Generational slavery continues because people think the Haratins (black Africans stolen from villages a few centuries ago in Arab-African wars) are the property of the White Moors. </a:t>
            </a:r>
            <a:endParaRPr b="0" lang="en-US" sz="26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http://eewiki.newint.org/index.php/Slavery_in_Mauritani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find out:</a:t>
            </a:r>
            <a:endParaRPr b="0" lang="en-US" sz="4400" spc="-1" strike="noStrike">
              <a:solidFill>
                <a:srgbClr val="000000"/>
              </a:solidFill>
              <a:latin typeface="Calibri"/>
            </a:endParaRPr>
          </a:p>
        </p:txBody>
      </p:sp>
      <p:sp>
        <p:nvSpPr>
          <p:cNvPr id="58" name=""/>
          <p:cNvSpPr txBox="1"/>
          <p:nvPr/>
        </p:nvSpPr>
        <p:spPr>
          <a:xfrm>
            <a:off x="457200" y="1989000"/>
            <a:ext cx="8229600" cy="4137120"/>
          </a:xfrm>
          <a:prstGeom prst="rect">
            <a:avLst/>
          </a:prstGeom>
          <a:noFill/>
          <a:ln w="0">
            <a:noFill/>
          </a:ln>
        </p:spPr>
        <p:txBody>
          <a:bodyPr anchor="t">
            <a:normAutofit fontScale="96000"/>
          </a:bodyPr>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did slavery become illegal?</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What are the three main ethnic groups in Mauritania?</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it’s the original, not Easy English)</a:t>
            </a:r>
            <a:endParaRPr b="0" lang="en-US" sz="40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0" name=""/>
          <p:cNvSpPr txBox="1"/>
          <p:nvPr/>
        </p:nvSpPr>
        <p:spPr>
          <a:xfrm>
            <a:off x="179280" y="115920"/>
            <a:ext cx="8785440" cy="6742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large, sparsely populated desert country of Mauritania, slavery is rife – despite being outlawed in 1981 and made a crime against humanity in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ania, on the western coast of the Sahara, has the highest prevalence of slavery per head of population, according to the 2013 Global Slavery Index. Compiled by the anti-slavery charity Walk Free Foundation, the index found that 151,000 people – almost four per cent of the entire population – may be living in slavery. Estimates by other groups put this figure at up to 20 per c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lavery in Mauritania primarily takes the form of chattel slavery, with slave status being passed down through the generations from people originally captured during historical raids by slave-owning grou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also tied up with racism. Mauritanian society is made up of three main ethnic groups: Haratins, Afro-Mauritanians and White Moors. Generational slavery is perpetuated because Haratins – black Africans stolen from villages a few centuries ago during Arab-African wars – are traditionally seen as the property of the White Moors.</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newint.org/sections/agenda/2014/01/01/kept-in-slavery/</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do you think they have slavery ther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0000"/>
          </a:bodyPr>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Economic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Religious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Power and control?</a:t>
            </a:r>
            <a:endParaRPr b="0" lang="en-US" sz="6000" spc="-1" strike="noStrike">
              <a:solidFill>
                <a:srgbClr val="000000"/>
              </a:solidFill>
              <a:latin typeface="Calibri"/>
            </a:endParaRPr>
          </a:p>
          <a:p>
            <a:pPr marL="462960" indent="-462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462960" indent="-462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 the next slide to fin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4" name=""/>
          <p:cNvSpPr txBox="1"/>
          <p:nvPr/>
        </p:nvSpPr>
        <p:spPr>
          <a:xfrm>
            <a:off x="178920" y="115920"/>
            <a:ext cx="8713800" cy="6626160"/>
          </a:xfrm>
          <a:prstGeom prst="rect">
            <a:avLst/>
          </a:prstGeom>
          <a:noFill/>
          <a:ln w="0">
            <a:noFill/>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from the Haratin community who now lives in Germany) says the White Moors (a minority in Mauritania) have too much political power. ‘They don’t allow the Haratin community to develop. If they allow them education, they will refuse to be slaves and will compete for power,’ he say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lso, in Mauritania, people use religious teachings to say slavery is OK. ‘One understanding of Islam says that society is in two parts – masters and slaves,’ says Ould-Merzough. ‘The slaves accept this and believe that God wants them to be slave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people don’t want to stop slavery in Mauritania because the country is in an important place politically (they say it is an important friend of the West against Al-Qaeda in the Islamic Maghreb). And the Mauritanian government says that slavery is not allowed; they say they give strong punishments to any slavery they find.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re are shocking stories and statistics about slavery, but there are positive things happening too. ‘The anti-slavery movement in Mauritania is growing and that really keeps me optimistic,’ says Saidou Wane (Mauritanian human rights activist in the US). ‘There is some progress: people are starting to understand the problems. And all groups are starting to understand - some Arabs [White Moors] are getting involved, to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cabula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t the next slide – it’s the original (difficult) artic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work out the meaning of the underlined phrases from the cont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match the easy English with the original.</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4906800" y="4653000"/>
            <a:ext cx="3179880" cy="20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9" name=""/>
          <p:cNvSpPr txBox="1"/>
          <p:nvPr/>
        </p:nvSpPr>
        <p:spPr>
          <a:xfrm>
            <a:off x="250920" y="476280"/>
            <a:ext cx="8642160" cy="612144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and member of the Haratin community now living in Germany, says the White Moors – a minority in Mauritania – </a:t>
            </a:r>
            <a:r>
              <a:rPr b="0" lang="en-GB" sz="2100" spc="-1" strike="noStrike" u="sng">
                <a:solidFill>
                  <a:srgbClr val="ff0000"/>
                </a:solidFill>
                <a:uFillTx/>
                <a:latin typeface="Calibri"/>
              </a:rPr>
              <a:t>wield a disproportionate amount of </a:t>
            </a:r>
            <a:r>
              <a:rPr b="0" lang="en-GB" sz="2100" spc="-1" strike="noStrike">
                <a:solidFill>
                  <a:srgbClr val="000000"/>
                </a:solidFill>
                <a:latin typeface="Calibri"/>
              </a:rPr>
              <a:t>political power. ‘They want to keep the Haratin community underdeveloped – if they allow them to be educated, they will refuse to be slaves and will be a competitor for power,’ he says.</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doctrination is a key feature of slavery in Mauritania, with religious teachings used to </a:t>
            </a:r>
            <a:r>
              <a:rPr b="0" lang="en-GB" sz="2100" spc="-1" strike="noStrike" u="sng">
                <a:solidFill>
                  <a:srgbClr val="ff0000"/>
                </a:solidFill>
                <a:uFillTx/>
                <a:latin typeface="Calibri"/>
              </a:rPr>
              <a:t>justify the practices of </a:t>
            </a:r>
            <a:r>
              <a:rPr b="0" lang="en-GB" sz="2100" spc="-1" strike="noStrike">
                <a:solidFill>
                  <a:srgbClr val="000000"/>
                </a:solidFill>
                <a:latin typeface="Calibri"/>
              </a:rPr>
              <a:t>slavery. ‘There’s an interpretation of Islam that says society is divided into two – masters and slaves,’ says Ould-Merzough. ‘The slaves accept this and believe </a:t>
            </a:r>
            <a:r>
              <a:rPr b="0" lang="en-GB" sz="2100" spc="-1" strike="noStrike" u="sng">
                <a:solidFill>
                  <a:srgbClr val="ff0000"/>
                </a:solidFill>
                <a:uFillTx/>
                <a:latin typeface="Calibri"/>
              </a:rPr>
              <a:t>their status is willed by Go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Mauritania’s geopolitical role (it’s seen as an important Western ally against Al-Qaeda in the Islamic Maghreb) has led to slavery in the country being overlooked. As for the Mauritanian government, it emphasizes the fact that slavery is prohibited and says that </a:t>
            </a:r>
            <a:r>
              <a:rPr b="0" lang="en-GB" sz="2100" spc="-1" strike="noStrike" u="sng">
                <a:solidFill>
                  <a:srgbClr val="ff0000"/>
                </a:solidFill>
                <a:uFillTx/>
                <a:latin typeface="Calibri"/>
              </a:rPr>
              <a:t>any cases that come to light are vigorously punishe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spite the shocking stories and hard-hitting statistics about the prevalence of slavery, </a:t>
            </a:r>
            <a:r>
              <a:rPr b="0" lang="en-GB" sz="2100" spc="-1" strike="noStrike" u="sng">
                <a:solidFill>
                  <a:srgbClr val="ff0000"/>
                </a:solidFill>
                <a:uFillTx/>
                <a:latin typeface="Calibri"/>
              </a:rPr>
              <a:t>there are positive developments afoot</a:t>
            </a:r>
            <a:r>
              <a:rPr b="0" lang="en-GB" sz="2100" spc="-1" strike="noStrike">
                <a:solidFill>
                  <a:srgbClr val="000000"/>
                </a:solidFill>
                <a:latin typeface="Calibri"/>
              </a:rPr>
              <a:t>. ‘The anti-slavery movement in Mauritania is becoming bigger and bigger and that really keeps me optimistic,’ says Saidou Wane, a Mauritanian human rights activist based in the US. ‘There is progress being made: people are waking up and starting to understand the issue. And </a:t>
            </a:r>
            <a:r>
              <a:rPr b="0" lang="en-GB" sz="2100" spc="-1" strike="noStrike" u="sng">
                <a:solidFill>
                  <a:srgbClr val="ff0000"/>
                </a:solidFill>
                <a:uFillTx/>
                <a:latin typeface="Calibri"/>
              </a:rPr>
              <a:t>it’s happening across the board</a:t>
            </a:r>
            <a:r>
              <a:rPr b="0" lang="en-GB" sz="2100" spc="-1" strike="noStrike">
                <a:solidFill>
                  <a:srgbClr val="000000"/>
                </a:solidFill>
                <a:latin typeface="Calibri"/>
              </a:rPr>
              <a:t>, with some Arabs [White Moors] getting involved, too.</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22:19:43Z</dcterms:created>
  <dc:creator>Linda Ruas</dc:creator>
  <dc:description/>
  <dc:language>en-US</dc:language>
  <cp:lastModifiedBy>Linda Ruas</cp:lastModifiedBy>
  <dcterms:modified xsi:type="dcterms:W3CDTF">2014-03-05T19:49:24Z</dcterms:modified>
  <cp:revision>14</cp:revision>
  <dc:subject/>
  <dc:title>Slavery in Mauritania</dc:title>
</cp:coreProperties>
</file>